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75D5-1689-4809-B55C-7C47E4C4F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0306-1240-43EB-88A4-7711491D9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B4E9-12FA-452C-A16C-3800BAEA0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DED-08B7-4D9F-B332-465CF6F2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32DD-03C9-492C-BDE7-9A79625F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07C-F175-43EF-8ECB-B8D5352E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A949-67DC-44B1-8C18-B1DFB42A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8377-D688-4776-8F53-7DBE4AC1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9B9-ADFA-4248-A6FC-271AA4F0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C2E-0344-4CA0-A930-32CA7B13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281-F8A2-435B-AAF1-86A34E20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9B1-6FCE-4051-A782-F5099AAE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17E4-BF26-4F7F-968E-8057AE2C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615-549D-4D33-9EF4-56DFA5CB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911F-809E-477C-BD39-83ABC32C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FFD0-04CB-4AB4-8F63-7D11CDEBD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70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siel Lo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siel Lop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de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9051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emocionada y content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286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asiel Lopez Tengo quince anos y vivo en Astoria Nueva York. Yo tengo una hermana y un hermano. Quieres saber como soy? Yo soy muy energetica y estudios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528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tangle 27" descr=""/>
          <p:cNvPicPr/>
          <p:nvPr/>
        </p:nvPicPr>
        <p:blipFill>
          <a:blip r:embed="rId1"/>
          <a:stretch/>
        </p:blipFill>
        <p:spPr>
          <a:xfrm>
            <a:off x="2736720" y="3529080"/>
            <a:ext cx="4078440" cy="1251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 Maninder, si tu puedes comer mis chocolates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 Masiel! ¿Me puede dar un chocolate por favor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Maninder, y si yo quiero ir. Te voy mannan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 amiga! ¿Có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3434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ia! Estoy feliz y anciosia para estar contigo hoy! Mi dia es maravilloso hoy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Pero qùe haces, estas lista? Este dia va a estar divertido. Tu eres muy alta so m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Voy a poner botas. Somos como hermanas y te quiero much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62120" y="6400800"/>
            <a:ext cx="183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05120" y="670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siel Lo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siel Lop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de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19051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1981080" y="19051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emocionada y content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6"/>
          <p:cNvSpPr/>
          <p:nvPr/>
        </p:nvSpPr>
        <p:spPr>
          <a:xfrm>
            <a:off x="152280" y="5029200"/>
            <a:ext cx="1600200" cy="2286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2"/>
          <p:cNvSpPr/>
          <p:nvPr/>
        </p:nvSpPr>
        <p:spPr>
          <a:xfrm>
            <a:off x="152280" y="5715000"/>
            <a:ext cx="60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asiel Lopez Tengo quince anos y vivo en Astoria Nueva York. Yo tengo una hermana y un hermano. Quieres saber como soy? Yo soy muy energetica y estudios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6"/>
          <p:cNvSpPr/>
          <p:nvPr/>
        </p:nvSpPr>
        <p:spPr>
          <a:xfrm flipH="1">
            <a:off x="129528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Rectangle 27" descr=""/>
          <p:cNvPicPr/>
          <p:nvPr/>
        </p:nvPicPr>
        <p:blipFill>
          <a:blip r:embed="rId1"/>
          <a:stretch/>
        </p:blipFill>
        <p:spPr>
          <a:xfrm>
            <a:off x="2736720" y="3736800"/>
            <a:ext cx="4078440" cy="828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7"/>
          <p:cNvSpPr/>
          <p:nvPr/>
        </p:nvSpPr>
        <p:spPr>
          <a:xfrm>
            <a:off x="2819520" y="3352680"/>
            <a:ext cx="396216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tanbiem pero yo quiero correr, escribir, usar mi telephono, aprender com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ocinar, cantar y desayunar porqùe tengo mucha hambr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cansada hoy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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telephono es 718-976-9954 y ahora ya no estoy cansada.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2666880" y="5181480"/>
            <a:ext cx="441972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Somos muy buenas amigas no? David y Emily estan muy contentas porque som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Viejas amigas. Tu eres muy alta tambien! David y Emily son altos tambi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amos guntas por siempre. Y te extraño. Este perro que compramos te extrañ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2666880" y="6248520"/>
            <a:ext cx="4419720" cy="7617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nemos muchos años juntos por eso te quiero bastante. Tu tienes una buena personalidad. Emily me es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Esperando. Sus amigas son sympaticas. Ellas tienen muchas ropa que me gusta. Pero no me abburen, qu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2"/>
          <p:cNvSpPr/>
          <p:nvPr/>
        </p:nvSpPr>
        <p:spPr>
          <a:xfrm>
            <a:off x="762120" y="6400800"/>
            <a:ext cx="183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8:16Z</dcterms:modified>
  <cp:revision>109</cp:revision>
  <dc:subject/>
  <dc:title>Profile</dc:title>
</cp:coreProperties>
</file>